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3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wmf" ContentType="image/x-wmf"/>
  <Override PartName="/ppt/media/image24.png" ContentType="image/png"/>
  <Override PartName="/ppt/media/image21.gif" ContentType="image/gif"/>
  <Override PartName="/ppt/media/image20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CA2-AFB4-4461-AB5B-2B9FC0F5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59B-70EA-46E8-97BD-716BAFE9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6F3-AA1C-435D-BEF9-092180E5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03B-D28C-4A84-A7D3-E77C7CA3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6850-5BE8-4BCC-ABE4-E66B21DD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3542-78E0-4F83-9892-7B2C508C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55FD-52A9-49C9-ACF0-82A575CE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D45-3469-4811-AE42-766AD340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7741-A15F-471D-B95D-B86174BB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807-0443-4E4D-9411-485EB3CD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EDA4-57ED-4DE0-9D50-8AD8D48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06F-5A93-4D30-999F-28047A8A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4A1B-5456-4F30-8DE0-D2780E5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0B30-941F-4CD3-A2D8-9B5FED1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6D4C-4FC7-4D05-A8E5-3E6E123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F811-3D76-4B50-8167-3DF97AB4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A620-08FC-4896-BA9A-A24FC6DD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59E-A4F5-4338-A63B-549FDFE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8D8-D129-47F9-9480-1DC2665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628-518D-4C08-802F-80B9BA1A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A9F-6E0B-418C-B20F-B07A75BD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C08-FA43-423D-BA0D-080279D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775-ABE4-43CE-A036-522DB686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C65-D725-48C6-B1EF-776BA58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6B4-6F28-44CA-8B0E-679276EEC51C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B679-3113-4561-8C85-72B72AA6C14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bc.co.uk/science/humanbody/body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beactive.com.au/" TargetMode="External"/><Relationship Id="rId11" Type="http://schemas.openxmlformats.org/officeDocument/2006/relationships/hyperlink" Target="http://www.goforyourlife.vic.gov.au/" TargetMode="External"/><Relationship Id="rId12" Type="http://schemas.openxmlformats.org/officeDocument/2006/relationships/hyperlink" Target="http://www.cdc.gov/nccdphp/dnpa/physical/health_professionals/index.htm" TargetMode="External"/><Relationship Id="rId13" Type="http://schemas.openxmlformats.org/officeDocument/2006/relationships/hyperlink" Target="http://www.phac-aspc.gc.ca/hp-ps/index.html" TargetMode="External"/><Relationship Id="rId14" Type="http://schemas.openxmlformats.org/officeDocument/2006/relationships/hyperlink" Target="http://www.nphp.gov.au/workprog/sigpah/" TargetMode="External"/><Relationship Id="rId15" Type="http://schemas.openxmlformats.org/officeDocument/2006/relationships/hyperlink" Target="http://www.bbc.co.uk/science/humanbody" TargetMode="External"/><Relationship Id="rId16" Type="http://schemas.openxmlformats.org/officeDocument/2006/relationships/hyperlink" Target="http://www.innerbody.com/" TargetMode="External"/><Relationship Id="rId17" Type="http://schemas.openxmlformats.org/officeDocument/2006/relationships/hyperlink" Target="http://www.ehc.com/vbody.asp" TargetMode="External"/><Relationship Id="rId18" Type="http://schemas.openxmlformats.org/officeDocument/2006/relationships/hyperlink" Target="http://www.faccioni.com/Reviews/oxygendeficit.htm" TargetMode="External"/><Relationship Id="rId19" Type="http://schemas.openxmlformats.org/officeDocument/2006/relationships/hyperlink" Target="http://www.perfusion.com.au/CCP/Physiology/Oxygen%20and%20carbon%20dioxide%20transport.htm" TargetMode="External"/><Relationship Id="rId20" Type="http://schemas.openxmlformats.org/officeDocument/2006/relationships/hyperlink" Target="http://www.nismat.org/physcor/max_o2.html" TargetMode="External"/><Relationship Id="rId21" Type="http://schemas.openxmlformats.org/officeDocument/2006/relationships/hyperlink" Target="http://www.ausport.gov.au/" TargetMode="External"/><Relationship Id="rId22" Type="http://schemas.openxmlformats.org/officeDocument/2006/relationships/hyperlink" Target="http://www.brianmac.demon.co.uk/" TargetMode="External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9056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ardiovascular system"/>
          <p:cNvPicPr/>
          <p:nvPr/>
        </p:nvPicPr>
        <p:blipFill>
          <a:blip r:embed="rId1"/>
          <a:stretch/>
        </p:blipFill>
        <p:spPr>
          <a:xfrm>
            <a:off x="4932360" y="1628640"/>
            <a:ext cx="3922560" cy="47628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87" name="Text Box 10"/>
          <p:cNvSpPr/>
          <p:nvPr/>
        </p:nvSpPr>
        <p:spPr>
          <a:xfrm>
            <a:off x="250920" y="177336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bookCover_34"/>
          <p:cNvPicPr/>
          <p:nvPr/>
        </p:nvPicPr>
        <p:blipFill>
          <a:blip r:embed="rId2"/>
          <a:stretch/>
        </p:blipFill>
        <p:spPr>
          <a:xfrm>
            <a:off x="327672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Live it up 2"/>
          <p:cNvPicPr/>
          <p:nvPr/>
        </p:nvPicPr>
        <p:blipFill>
          <a:blip r:embed="rId3"/>
          <a:stretch/>
        </p:blipFill>
        <p:spPr>
          <a:xfrm>
            <a:off x="3276720" y="4221000"/>
            <a:ext cx="1433520" cy="18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Limitations to maximal oxygen uptake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Heart Rate and Oxygen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392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hen exercis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ur heart rate increases to meet the oxygen demands for the working mus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relationship between HR and oxygen consumption is lin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rained athletes are able to utilise their oxygen uptake more efficiently than non trained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AU" sz="2000" spc="-1" strike="noStrike">
                <a:solidFill>
                  <a:srgbClr val="ff3300"/>
                </a:solidFill>
                <a:latin typeface="Arial"/>
              </a:rPr>
              <a:t>fig 5.3 p.1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Image29"/>
          <p:cNvPicPr/>
          <p:nvPr/>
        </p:nvPicPr>
        <p:blipFill>
          <a:blip r:embed="rId1"/>
          <a:stretch/>
        </p:blipFill>
        <p:spPr>
          <a:xfrm>
            <a:off x="4991040" y="222408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336395"/>
          <p:cNvPicPr/>
          <p:nvPr/>
        </p:nvPicPr>
        <p:blipFill>
          <a:blip r:embed="rId2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8232120" y="990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.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Heart Rate and Inten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80880" y="1197000"/>
            <a:ext cx="8458200" cy="489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Oxygen Defici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Oxygen Defic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125000"/>
            <a:ext cx="38098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Oxygen deficit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occurs when the demand for oxygen exceeds the supply of oxygen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body therefore needs to obtain ATP through anaerobic pathw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hort duration/high intensity – Lactic acid is produced but is removed once oxygen demands are m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erformance is hindered due to the presence of lact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nce oxygen demands are met, the body reaches its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steady state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erobic glycolysis assists in the removal of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j0336395"/>
          <p:cNvPicPr/>
          <p:nvPr/>
        </p:nvPicPr>
        <p:blipFill>
          <a:blip r:embed="rId1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8154000" y="9907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.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Swimming"/>
          <p:cNvPicPr/>
          <p:nvPr/>
        </p:nvPicPr>
        <p:blipFill>
          <a:blip r:embed="rId2"/>
          <a:stretch/>
        </p:blipFill>
        <p:spPr>
          <a:xfrm>
            <a:off x="4788000" y="4581360"/>
            <a:ext cx="3809880" cy="18417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Acute Respons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cute Respo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1760" y="1196640"/>
            <a:ext cx="38098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cute responses occur to supply extra oxygen and nutrients to support ATP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cute responses inclu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duction in creatine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ccumulation of lact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crease in epinephrine (Regulates BP and 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consumption lev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1640" y="134136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duction in glycogen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crease in muscle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crease in cardiac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distribution of blood to working mus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sponses are dependent on intensity, duration, fitness levels and type of activit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j0336395"/>
          <p:cNvPicPr/>
          <p:nvPr/>
        </p:nvPicPr>
        <p:blipFill>
          <a:blip r:embed="rId1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8153280" y="990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.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cute Respo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42600" y="157176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cute responses to exercise. Increase 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xygen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ransport of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traction of oxygen from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nsumption of oxygen by working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ntinues until maximum uptake is met (V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m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www.bbc.co.uk/science/humanbody/body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RBC2"/>
          <p:cNvPicPr/>
          <p:nvPr/>
        </p:nvPicPr>
        <p:blipFill>
          <a:blip r:embed="rId2"/>
          <a:stretch/>
        </p:blipFill>
        <p:spPr>
          <a:xfrm>
            <a:off x="5148360" y="1197000"/>
            <a:ext cx="36478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Oxygen Deb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80988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fter exercise our demand for ATP decreases but we still need to ‘repay’ the oxygen needed during exerc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is is why we puff after intens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higher the intensity and duration of activities, the longer the oxygen deb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Image27"/>
          <p:cNvPicPr/>
          <p:nvPr/>
        </p:nvPicPr>
        <p:blipFill>
          <a:blip r:embed="rId1"/>
          <a:stretch/>
        </p:blipFill>
        <p:spPr>
          <a:xfrm>
            <a:off x="4788000" y="1268280"/>
            <a:ext cx="3809880" cy="446580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Body Systems - Respira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espiratory2"/>
          <p:cNvPicPr/>
          <p:nvPr/>
        </p:nvPicPr>
        <p:blipFill>
          <a:blip r:embed="rId1"/>
          <a:stretch/>
        </p:blipFill>
        <p:spPr>
          <a:xfrm>
            <a:off x="3124080" y="1600200"/>
            <a:ext cx="289584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lveoli"/>
          <p:cNvPicPr/>
          <p:nvPr/>
        </p:nvPicPr>
        <p:blipFill>
          <a:blip r:embed="rId2"/>
          <a:stretch/>
        </p:blipFill>
        <p:spPr>
          <a:xfrm>
            <a:off x="6172200" y="1523880"/>
            <a:ext cx="2781360" cy="4496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2749320" cy="4443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EP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nother term used for oxygen recovery is EPOC – excess post-exercise oxygen consum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lactacid Debt – Oxygen used to restore ATP and PC s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actacid Debt -  Oxygen used to remove lactic acid from cells/b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dditional oxygen is used to recover the energy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ata Analysis p.124-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AU" sz="2000" spc="-1" strike="noStrike">
                <a:solidFill>
                  <a:srgbClr val="ff3300"/>
                </a:solidFill>
                <a:latin typeface="Arial"/>
              </a:rPr>
              <a:t>Fig 5.9 p.1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epoc"/>
          <p:cNvPicPr/>
          <p:nvPr/>
        </p:nvPicPr>
        <p:blipFill>
          <a:blip r:embed="rId1"/>
          <a:stretch/>
        </p:blipFill>
        <p:spPr>
          <a:xfrm>
            <a:off x="4500720" y="1628640"/>
            <a:ext cx="4267080" cy="4164120"/>
          </a:xfrm>
          <a:prstGeom prst="rect">
            <a:avLst/>
          </a:prstGeom>
          <a:ln w="0">
            <a:noFill/>
          </a:ln>
        </p:spPr>
      </p:pic>
      <p:sp>
        <p:nvSpPr>
          <p:cNvPr id="17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j0336395"/>
          <p:cNvPicPr/>
          <p:nvPr/>
        </p:nvPicPr>
        <p:blipFill>
          <a:blip r:embed="rId2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8153280" y="990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.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00"/>
                </a:solidFill>
                <a:latin typeface="Arial"/>
              </a:rPr>
              <a:t>Web Links – 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176" name="Rectangle 5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6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178" name="Group 7"/>
              <p:cNvGrpSpPr/>
              <p:nvPr/>
            </p:nvGrpSpPr>
            <p:grpSpPr>
              <a:xfrm>
                <a:off x="0" y="1562040"/>
                <a:ext cx="9144000" cy="3780000"/>
                <a:chOff x="0" y="1562040"/>
                <a:chExt cx="9144000" cy="3780000"/>
              </a:xfrm>
            </p:grpSpPr>
            <p:sp>
              <p:nvSpPr>
                <p:cNvPr id="179" name="Rectangle 8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9"/>
                <p:cNvSpPr/>
                <p:nvPr/>
              </p:nvSpPr>
              <p:spPr>
                <a:xfrm>
                  <a:off x="0" y="1562040"/>
                  <a:ext cx="9144000" cy="378000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10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Rectangle 11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1295280"/>
            <a:ext cx="9144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ve body and mind tests from the BBC UK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5"/>
              </a:rPr>
              <a:t>http://www.bbc.co.uk/science/humanbody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uman anatomy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6"/>
              </a:rPr>
              <a:t>http://www.innerbody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about the body and anatomy – Virtual Body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7"/>
              </a:rPr>
              <a:t>http://www.ehc.com/vbody.as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– Oxygen Deficit: A Measure of Anaerobic Capacity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8"/>
              </a:rPr>
              <a:t>http://www.faccioni.com/Reviews/oxygendeficit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on the transport of oxygen in the blood, from the Australasian Society of Cardio-Vascular Perfusionists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9"/>
              </a:rPr>
              <a:t>http://www.perfusion.com.au/CCP/Physiology/Oxygen and carbon dioxide transport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Nicholas Institute of Sports Medicine and Athletic Trauma – A primer on maximum oxygen consumption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0"/>
              </a:rPr>
              <a:t>http://www.nismat.org/physcor/max_o2.html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Sports Commission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1"/>
              </a:rPr>
              <a:t>http://www.auspo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ports Coach UK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hlinkClick r:id="rId22"/>
              </a:rPr>
              <a:t>http://www.brianmac.demon.co.u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>
            <a:hlinkClick r:id="rId23" action="ppaction://hlinksldjump"/>
          </p:cNvPr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Body Systems - Circula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heart"/>
          <p:cNvPicPr/>
          <p:nvPr/>
        </p:nvPicPr>
        <p:blipFill>
          <a:blip r:embed="rId1"/>
          <a:stretch/>
        </p:blipFill>
        <p:spPr>
          <a:xfrm>
            <a:off x="228600" y="1676520"/>
            <a:ext cx="2971800" cy="4190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body_circulation"/>
          <p:cNvPicPr/>
          <p:nvPr/>
        </p:nvPicPr>
        <p:blipFill>
          <a:blip r:embed="rId2"/>
          <a:stretch/>
        </p:blipFill>
        <p:spPr>
          <a:xfrm>
            <a:off x="6019920" y="1752480"/>
            <a:ext cx="2895480" cy="421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arteries"/>
          <p:cNvPicPr/>
          <p:nvPr/>
        </p:nvPicPr>
        <p:blipFill>
          <a:blip r:embed="rId3"/>
          <a:stretch/>
        </p:blipFill>
        <p:spPr>
          <a:xfrm>
            <a:off x="3429000" y="1676520"/>
            <a:ext cx="2438280" cy="2479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2595600" y="2189160"/>
            <a:ext cx="704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4"/>
          <a:stretch/>
        </p:blipFill>
        <p:spPr>
          <a:xfrm>
            <a:off x="3505320" y="4267080"/>
            <a:ext cx="223344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Body Systems - Muscu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muscular"/>
          <p:cNvPicPr/>
          <p:nvPr/>
        </p:nvPicPr>
        <p:blipFill>
          <a:blip r:embed="rId1"/>
          <a:stretch/>
        </p:blipFill>
        <p:spPr>
          <a:xfrm>
            <a:off x="228600" y="1676520"/>
            <a:ext cx="601992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3389400" y="2052720"/>
            <a:ext cx="702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SE2CD_0402"/>
          <p:cNvPicPr/>
          <p:nvPr/>
        </p:nvPicPr>
        <p:blipFill>
          <a:blip r:embed="rId2"/>
          <a:stretch/>
        </p:blipFill>
        <p:spPr>
          <a:xfrm>
            <a:off x="6383160" y="1676520"/>
            <a:ext cx="2308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Muscle Structur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9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42900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arcomere"/>
          <p:cNvPicPr/>
          <p:nvPr/>
        </p:nvPicPr>
        <p:blipFill>
          <a:blip r:embed="rId1"/>
          <a:stretch/>
        </p:blipFill>
        <p:spPr>
          <a:xfrm>
            <a:off x="539640" y="1197000"/>
            <a:ext cx="3810240" cy="3505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3090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08584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001000" cy="146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392436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08080"/>
                </a:solidFill>
                <a:latin typeface="Arial"/>
              </a:rPr>
              <a:t>Oxygen Upta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livery of Oxygen to the Working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19664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respiratory system is responsible for the extraction of oxygen from the atmosphere. This process is called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ventilation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– Exchange of gases based on concentration levels (High to low). Occurs at a cellular level (In the lungs and in the muscle 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Cardiac output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(Heart rate x stroke volume) - The heart pumps out oxygenated blood to the vascular syst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combines with haemoglobin i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Myoglobin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in the muscle attracts the oxyg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rom the blood and draws it into the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aste produces of aerobic metabolism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moved from the muscle cell via diffu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AU" sz="2000" spc="-1" strike="noStrike">
                <a:solidFill>
                  <a:srgbClr val="ff3300"/>
                </a:solidFill>
                <a:latin typeface="Arial"/>
              </a:rPr>
              <a:t>fig 5.2 p.1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360520" y="1932120"/>
            <a:ext cx="442296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RBC2"/>
          <p:cNvPicPr/>
          <p:nvPr/>
        </p:nvPicPr>
        <p:blipFill>
          <a:blip r:embed="rId1"/>
          <a:stretch/>
        </p:blipFill>
        <p:spPr>
          <a:xfrm>
            <a:off x="7236000" y="4508640"/>
            <a:ext cx="1552320" cy="1706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Oxygen Up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440" y="126828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imiting factors to oxygen uptak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9696"/>
                </a:solidFill>
                <a:uFillTx/>
                <a:latin typeface="Arial"/>
                <a:hlinkClick r:id="rId1" action="ppaction://hlinksldjump"/>
              </a:rPr>
              <a:t>Respiratory system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– ability to take in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9696"/>
                </a:solidFill>
                <a:uFillTx/>
                <a:latin typeface="Arial"/>
                <a:hlinkClick r:id="rId2" action="ppaction://hlinksldjump"/>
              </a:rPr>
              <a:t>Cardiovascular system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– ability to transport and deliver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9696"/>
                </a:solidFill>
                <a:uFillTx/>
                <a:latin typeface="Arial"/>
                <a:hlinkClick r:id="rId3" action="ppaction://hlinksldjump"/>
              </a:rPr>
              <a:t>Muscular system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– Utilisation of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ype of exercise performed, genetic inheritance, lifestyle, age and g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MaxOxyPop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0:17:34Z</dcterms:created>
  <dc:creator>DE&amp;T User</dc:creator>
  <dc:description/>
  <dc:language>en-US</dc:language>
  <cp:lastModifiedBy>Lyn Clarkson</cp:lastModifiedBy>
  <dcterms:modified xsi:type="dcterms:W3CDTF">2008-05-16T04:44:12Z</dcterms:modified>
  <cp:revision>173</cp:revision>
  <dc:subject/>
  <dc:title>Unit 3</dc:title>
</cp:coreProperties>
</file>